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A38C-9444-464D-BF32-97E8B2714526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12E2-E2E4-4CCC-9B0A-680FF56CA49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6BDF-D24A-4538-A2F0-13F8E497D42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Tracking Data Usage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1"/>
          <p:cNvSpPr/>
          <p:nvPr/>
        </p:nvSpPr>
        <p:spPr>
          <a:xfrm>
            <a:off x="355968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an be used for various purposes in addition to those initially planned by the investigators who originally collected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w products, such as maps, can be created and distribu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y be integrated with other data to create new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ies may be published about the use of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licies, plans, and reports may result from using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the use of scientific data identifies how the data have been used, can reveal benefits and impacts of their use, and can justify previous and future data effor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producers, distributors, stewards, and sponsors need to know how the data have been use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termine whether the data are useful to oth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will learn which communities the data are serv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document the data with descriptions of prior 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justify the costs of the effort and demonstrate the potential value of sponsoring future effor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wareness of how data have been used may identify opportunities for new data collection and distribution effor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data usage can justify the effort of collecting data and of developing and distributing data products or servic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vidence of beneficial data use demonstrates accomplishments for those who contributed to the effor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scribing tracked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may be describe in terms of  users, such as discipline (oceanography, geology, etc.) or level of expertise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s of the data can be categorized by purpos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ing uses of similar data should inform initial data development and dissemination 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uses should inform enhancements for data products and related services and can be used to identify the impacts of the 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 and subscribe to alerts from publish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en, R. S. &amp; Downs, R. R. 2010. Evaluating the Use and Impact of Scientific Data. NFAIS Workshop on Assessing The Usage and Value of Scholarly and Scientific Output: An Overview of Traditional and Emerging Metrics. Philadelphia, PA. Nov. 10, 2010 http://info.nfais.org/info/ChenDownsNov10.pdf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etermining your aud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roadening your user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1-12-03T05:10:18Z</dcterms:modified>
  <cp:revision>71</cp:revision>
  <dc:subject/>
  <dc:title>ESIP Federation 101</dc:title>
</cp:coreProperties>
</file>